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969-9112-43E4-8D4E-26B51924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017-8387-48B1-8AAF-DAF3E203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031-7B6B-4E92-8B2C-B6A8E2F0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5686-C490-44CC-885D-DA54A87B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AA9-EF6A-4AD1-AB58-5DDDBAED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E22-27DA-4ADE-9994-4645B9A4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3C0-317A-406F-A993-20409AEE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AEE9-3FF8-4748-8C75-7751844A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5CD-F276-43D4-B7D2-8B9A0277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907F-E41B-4705-87F8-085EC34F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C16-7538-4044-8A42-EADCAD40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9C2-A79B-43F3-920A-F1D97D70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B214-BF13-4626-819B-124C8D713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-76320"/>
            <a:ext cx="70866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21:53:00Z</dcterms:created>
  <dc:creator>Patrick J. Mooney</dc:creator>
  <dc:description/>
  <dc:language>en-US</dc:language>
  <cp:lastModifiedBy>Patrick J. Mooney</cp:lastModifiedBy>
  <dcterms:modified xsi:type="dcterms:W3CDTF">2010-10-04T22:22:19Z</dcterms:modified>
  <cp:revision>5</cp:revision>
  <dc:subject/>
  <dc:title>Slide 1</dc:title>
</cp:coreProperties>
</file>